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914C-ADF4-41F3-B8E8-8F87791E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1B39-5763-428F-AAA1-521D8A9F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DC6E-1FA3-4EF7-806D-AED939AA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A3AE-670C-4179-9CF5-0B1E0D43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437A-6F0F-4CA6-85B8-36536277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FEBE-2894-444D-BF7C-FF501846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8894-2424-49E8-BF7E-CCDAB44A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9AEC-C3E0-43AD-8A4D-141C06D8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C7BB-9CD8-461E-851B-86298554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53F5-6D78-4C09-A0C9-1D43A707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878F-A56A-4836-B289-7BC70E89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77C7-573B-4998-A991-F0224DE8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4F14-31EB-4D09-AE18-93D8BA8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7F4D-8C53-4832-B6B3-B61D488F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59DC-B3BB-4DBA-82CD-F885C452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9314-9AAE-4C5B-844F-B9800BFE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C406-4BCF-4F57-A848-E8EED64D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00ED-9595-4225-94DE-7BD2D58F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9039-723F-428B-8309-5813144F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08E7-1559-4BFE-9568-9258FA5F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2FC6-7A1E-4393-86EF-AF6A7A0D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8A85-0478-4827-A28E-3CAE55A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93B6-DE66-4835-98F7-F197AD03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79D4-EE64-41BB-A7B7-C1A63784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984C-2749-421C-972A-A52288D0631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B4F6-1971-4810-8743-966D13E2E12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Soziologie</a:t>
            </a:r>
            <a:br>
              <a:rPr sz="4000"/>
            </a:b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Sociolog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ndividuelle Freizeitgestaltu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2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Lesekultu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2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Neue Medi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Hand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Computerspie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24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Play St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eizeitgestaltung in der Grup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amil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usflü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rlau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reun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Part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K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is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chulklas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usflü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300"/>
              </a:spcBef>
              <a:buSzPct val="10300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Treff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ree time activ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ttitude to rea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New me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mobile ph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omputer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lay S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ree time activities in the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cur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olid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is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utor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chool tr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SzPct val="176403"/>
              <a:buBlip>
                <a:blip r:embed="rId2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Landeskunde</a:t>
            </a:r>
            <a:br>
              <a:rPr sz="4000"/>
            </a:b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Regional studi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ild des Landes (alles nur Stereotype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gionen, Städte, Landscha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harakteristische Merkm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ilder in Lehrbüch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ersonen in Lehrbüche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tten und Bräu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ünstler, Schriftsteller, Mus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ktuelle Bands und Sä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ortrait of the cou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gions, cities, country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ypical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Pictures in the text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People in the text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ustoms and tra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tists, writers, music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nds and singers of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Geschichte</a:t>
            </a:r>
            <a:br>
              <a:rPr sz="4000"/>
            </a:b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Histor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unktuelle historische Ereignisse eines Landes in Geschichtsbüchern (z.B. 1975 in Spanien, 1990 in Deutschlan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en Zeitraum (z.B. das XXI Jahrhundert) erforsch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ertain historical event of the country in the history books (for example 1975 in Spain or 1990 in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vestigation of the period of time (century XX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Fremdsprachen</a:t>
            </a:r>
            <a:br>
              <a:rPr sz="4000"/>
            </a:b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foreign languag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elfalt der unterrichtenden Fremdsprachen in der Sch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bschlüsse (nach dem europäischen Referenzrahm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erngruppenstä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elfalt der gesprochenen Muttersprachen in der Sch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 number of languages taught in th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ertificates of languages tought und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European Framework of Reference for Languages CE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upils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mother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Religion</a:t>
            </a:r>
            <a:br>
              <a:rPr sz="4000"/>
            </a:b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relig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ielfalt der Religion in der Schu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olle der Religion in jeweiligen Stuf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emeinsame religiöse Fest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 number of religious denomi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mportance of religion in certain ag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 religious holiday, common occa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Schule als Lebensraum</a:t>
            </a:r>
            <a:br>
              <a:rPr sz="4000"/>
            </a:br>
            <a:r>
              <a:rPr b="0" lang="de-DE" sz="4000" spc="-1" strike="noStrike">
                <a:solidFill>
                  <a:srgbClr val="dfdef6"/>
                </a:solidFill>
                <a:latin typeface="Arial"/>
              </a:rPr>
              <a:t>school as a living spa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chülerzah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ehrerzah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Unterrichtspla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ausengestaltun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G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tudienfahrten und Stufenfahrt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chulh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 number of pup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 number of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ime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ctivities in brea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tracurricular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chool excursions for one age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chool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6:45:29Z</dcterms:created>
  <dc:creator>K&amp;K&amp;K</dc:creator>
  <dc:description/>
  <dc:language>en-US</dc:language>
  <cp:lastModifiedBy>LEHRER-IN</cp:lastModifiedBy>
  <dcterms:modified xsi:type="dcterms:W3CDTF">2008-06-03T11:10:22Z</dcterms:modified>
  <cp:revision>14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